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64616"/>
        <c:axId val="63550670"/>
      </c:barChart>
      <c:catAx>
        <c:axId val="82464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50670"/>
        <c:crosses val="autoZero"/>
        <c:auto val="1"/>
        <c:lblAlgn val="ctr"/>
        <c:lblOffset val="100"/>
        <c:noMultiLvlLbl val="0"/>
      </c:catAx>
      <c:valAx>
        <c:axId val="63550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64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3EC-9E0C-49AC-AC4C-47F8CFEA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5B8-6FFC-433D-84E0-4C1029C6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F58-8F21-4D34-80A5-193E557E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97D-E979-40DF-AC06-569F8271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69D-DFAA-438F-803E-55B2D756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DB2-1BF0-4F34-9BE4-39C0998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695-570F-48C4-9AB0-8A639A98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F77-BE95-42E4-ACC5-5E95F5CF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E63-95A0-45B5-9144-89ED087E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257-89E4-434B-8C76-5DB67A3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831-DB31-41A9-B5BA-DBFF4ED7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5DA-3EBD-4869-9033-696A3E8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98E94-3A69-4461-88BC-A01F7FBC64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