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87965"/>
        <c:axId val="15201305"/>
      </c:barChart>
      <c:catAx>
        <c:axId val="45487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1305"/>
        <c:crosses val="autoZero"/>
        <c:auto val="1"/>
        <c:lblAlgn val="ctr"/>
        <c:lblOffset val="100"/>
        <c:noMultiLvlLbl val="0"/>
      </c:catAx>
      <c:valAx>
        <c:axId val="15201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87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CDE-19AA-4777-B2F6-37B5B71F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2F5-B7E7-415B-B7A7-CCC3B2DC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232-C4A6-4D92-9A5B-9FE22CDE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FD5-7100-4066-A18F-AFA58CCA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16E-93E0-4472-B796-E15CC491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0A8-8603-4772-886D-B1B8F40C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042-4DDA-416C-AD91-AD7C7077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3E1-7111-4F08-A142-1A9F3BC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E6F-970E-4F07-BE15-082EB5C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94F-35AB-473F-8DF8-3830637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7F7-9EE0-4531-A68D-22308FC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034-BE3D-4F58-BDB0-B83D34C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B01DC-D511-4CD9-B0EB-E0809DEE7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