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76746"/>
        <c:axId val="55361193"/>
      </c:barChart>
      <c:catAx>
        <c:axId val="92076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61193"/>
        <c:crosses val="autoZero"/>
        <c:auto val="1"/>
        <c:lblAlgn val="ctr"/>
        <c:lblOffset val="100"/>
        <c:noMultiLvlLbl val="0"/>
      </c:catAx>
      <c:valAx>
        <c:axId val="55361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6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21E-3938-4BB7-B76A-9F5B030F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723-7974-44DF-A144-C284C868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7A5-9CB1-428E-8A26-1FB9239E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E0E-4BF8-402E-9C1C-7025CB9B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242-A486-4FB2-964E-7CF35833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E95-4FD2-4226-9240-38D80D7F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00E-3EFE-4721-B6BD-30DBAAB6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4C2-1D67-4915-BA36-C53E20A1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A41-9D09-44CC-9676-48F92041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0F5-01C3-4217-A62A-338BF839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67B-42BD-4AB0-B077-F99E584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71F-159C-455A-88D2-6495927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22F9F-1F0E-4D7F-BA54-B0675A999A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