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22472"/>
        <c:axId val="20224912"/>
      </c:barChart>
      <c:catAx>
        <c:axId val="89122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24912"/>
        <c:crosses val="autoZero"/>
        <c:auto val="1"/>
        <c:lblAlgn val="ctr"/>
        <c:lblOffset val="100"/>
        <c:noMultiLvlLbl val="0"/>
      </c:catAx>
      <c:valAx>
        <c:axId val="20224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22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9F8-3514-45C0-9DBD-F975E859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F6F-7A4D-4569-B5BC-C91CBB7A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9E5-732F-4130-9090-4B2883E9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88CE-D158-46F1-944B-4613DDBF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2C8-05E9-4B41-BB52-8FEFD8A8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B2C-1192-446F-8A33-4E4B1596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306-2B01-4A60-9C4E-D7C9FC4A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366-FC28-4F98-BC9F-135B80CC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C61-5812-46EC-A348-879A1441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04E-3CD1-4D6E-A039-DD0A8A99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0A6-4B22-4243-BB4D-4973CDC3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718-D63D-4586-B440-AC0DD9E6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2A5D6-0F9C-4145-8250-30F8263B27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