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24381"/>
        <c:axId val="51977473"/>
      </c:barChart>
      <c:catAx>
        <c:axId val="76824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77473"/>
        <c:crosses val="autoZero"/>
        <c:auto val="1"/>
        <c:lblAlgn val="ctr"/>
        <c:lblOffset val="100"/>
        <c:noMultiLvlLbl val="0"/>
      </c:catAx>
      <c:valAx>
        <c:axId val="51977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24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F8D-A3D2-4027-A105-1882DDE8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8ED-CF6C-4AB1-AD48-B333FA18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F92-E04B-4C58-AD0F-377DE662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044-B79A-4A03-B3AF-F4C232F1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B2C-C1AE-4DC6-911D-FE5F7935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588-00BC-4394-85D6-0D129A1E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3844-4F99-4B03-AFEC-15CF54D1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A66-1D4B-4C9D-9093-6D6972DB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723-EDD4-40D3-B20C-3F2D4460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1E5-D1CE-48EC-A051-16BA346B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FCE-6AAB-409C-AA9F-E74224AE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AEB-F1F2-4D83-8035-E081E36B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B7648-991B-4747-870A-BCA8FD6CBF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