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88481"/>
        <c:axId val="16984195"/>
      </c:barChart>
      <c:catAx>
        <c:axId val="45488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84195"/>
        <c:crosses val="autoZero"/>
        <c:auto val="1"/>
        <c:lblAlgn val="ctr"/>
        <c:lblOffset val="100"/>
        <c:noMultiLvlLbl val="0"/>
      </c:catAx>
      <c:valAx>
        <c:axId val="16984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88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DC3-6160-47A3-B96C-93553EBF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2A8-FFA6-4ACF-9629-9A085EE3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4B7-55DD-43E9-BE07-3C5CA36E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33DA-808D-43A7-AA4F-8DB116AE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C50-D885-4B4C-8423-14E217E2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8FE-776C-4D85-A4B4-1AC24E9D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D78-6F60-48BC-9329-CD9746BA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266-9FC5-44B7-B58E-AB04648D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A8D-D6DA-4CDB-A1D0-1EA70D2A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DB5-5933-4958-919C-4737F9B4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0F5-013D-489F-B334-BD5C58C1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482-F8B1-432C-A75D-C85F3B47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5602C-337A-4C12-9A90-109130043A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