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948493"/>
        <c:axId val="90979796"/>
      </c:barChart>
      <c:catAx>
        <c:axId val="259484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979796"/>
        <c:crosses val="autoZero"/>
        <c:auto val="1"/>
        <c:lblAlgn val="ctr"/>
        <c:lblOffset val="100"/>
        <c:noMultiLvlLbl val="0"/>
      </c:catAx>
      <c:valAx>
        <c:axId val="909797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484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ED61-CF00-42FA-908B-63F2E8068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2A64-4603-4F33-A7C0-430A5BC0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8502-AA8F-4CF7-B09E-B37A4F334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0442-4142-4623-9B65-2FCCADE97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E337-B37D-4F4B-BC31-FA6F2DEC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C413-2727-472B-B4DE-05FC0DC8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A393-65AD-4470-B03B-CD551663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1826-C6DD-404B-8188-BC4A292A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9008-D1E0-478D-AE0D-D6941D21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BD81-9A51-4A90-BA55-E772FC42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53EB-FC2A-482A-ACE7-DE205D0B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B4B3-7A35-4A17-831B-1D361BD4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2EF47-9AC6-41C6-A1E0-8A4B7BCD1E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