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54889"/>
        <c:axId val="3446217"/>
      </c:barChart>
      <c:catAx>
        <c:axId val="78954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6217"/>
        <c:crosses val="autoZero"/>
        <c:auto val="1"/>
        <c:lblAlgn val="ctr"/>
        <c:lblOffset val="100"/>
        <c:noMultiLvlLbl val="0"/>
      </c:catAx>
      <c:valAx>
        <c:axId val="3446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54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DD4-3559-4AED-9DF6-F7058747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905-0D8B-40F7-A366-D1142455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E59-C8F9-4806-9E27-6DB60228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E79-B095-4C20-9325-1B2B5197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C27-48F0-4AB9-A325-E5B03E3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F6F-0C7E-4122-8E40-5C3C45C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16B-0780-4127-A094-6438C420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895-4657-4C0F-BE66-16B0F6F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164-FCCA-41D2-9691-D744218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946-C9B0-46B4-9C07-FF4D38A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A5C-2393-413A-B664-7C75E02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ACE-3F51-434F-A8E9-32605EB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989F1-012B-4FD8-8379-FDE18ACB12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