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0308277"/>
        <c:axId val="17853038"/>
      </c:barChart>
      <c:catAx>
        <c:axId val="9030827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853038"/>
        <c:crosses val="autoZero"/>
        <c:auto val="1"/>
        <c:lblAlgn val="ctr"/>
        <c:lblOffset val="100"/>
        <c:noMultiLvlLbl val="0"/>
      </c:catAx>
      <c:valAx>
        <c:axId val="1785303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30827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3D83-0112-460E-AD0B-5E008C721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9D0A-578E-4AD3-AECE-C92555C32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B3A9-C63E-4D70-B674-F55F52894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ED8C-0915-4C1D-9E01-87193E498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7F37-098A-451E-8C3B-186988E4D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EE65-7B52-4614-A244-D6C8819B0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1C02-DC0A-4063-BCEE-E507A4ED5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0EE7-635D-4FB4-AA95-5419C016B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6609-9C5A-4DD8-8DAC-FB660AE47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D99F-9CD2-42F7-9A16-0365671A7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2382-1B6F-406A-8DB7-89FB2B33C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09CE-5EDB-45FD-976B-F23B138F5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E4C69A-02AA-4B35-837F-884762A04A5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