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50372"/>
        <c:axId val="62105789"/>
      </c:barChart>
      <c:catAx>
        <c:axId val="61250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05789"/>
        <c:crosses val="autoZero"/>
        <c:auto val="1"/>
        <c:lblAlgn val="ctr"/>
        <c:lblOffset val="100"/>
        <c:noMultiLvlLbl val="0"/>
      </c:catAx>
      <c:valAx>
        <c:axId val="62105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50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BEF3-5E14-4E22-BB6D-E58F2A4B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544-15C8-4B98-BF17-B6AEFECB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40B-8CDC-4F94-94B4-AFBA1AD3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26C3-2AB7-46D1-8052-536B4088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599-5E46-42AC-B959-A85BD4A3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6DF-8206-4DFD-A10B-B290D1AB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92B-4799-4B85-BEA1-05CCF3E4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5AE1-4007-48D5-AF21-49CE7BBC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1891-B3E4-4B95-8F90-45DB6FEA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5E4-C30F-4AF9-AF66-86188A85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746-605C-4EBA-8F1B-B9ADC92D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11B-8DA3-4803-A578-90DADA42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81400-CE7F-4D01-AD53-4DCC65B99F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