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70244"/>
        <c:axId val="64821306"/>
      </c:barChart>
      <c:catAx>
        <c:axId val="259702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21306"/>
        <c:crosses val="autoZero"/>
        <c:auto val="1"/>
        <c:lblAlgn val="ctr"/>
        <c:lblOffset val="100"/>
        <c:noMultiLvlLbl val="0"/>
      </c:catAx>
      <c:valAx>
        <c:axId val="648213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702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7753-1A8C-44FF-9E55-6A9F5B82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7F50-6196-46D9-ABCB-2C2E35F5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1091-DFC4-4A4A-82B2-20355B0D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7324-127B-4690-802E-5A9710D2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E7BB-1E3B-403E-8E44-8335117D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E7A3-2B95-4E2C-ABA0-89251BD0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B2F0-3DA5-4C2D-BA9A-54C0035F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BF58-5B02-46B7-A88D-35A3D168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4D0B-BA40-4111-A64A-442BA831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A679-5785-401A-93AF-1BE3C277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7FEA-EFC3-47BE-9EFD-BF7A8712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305A-5E38-48C9-B3EF-F19C1E9B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ED0F8-F594-42C5-BBA3-3C453B7914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