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1975"/>
        <c:axId val="1954793"/>
      </c:barChart>
      <c:catAx>
        <c:axId val="7135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4793"/>
        <c:crosses val="autoZero"/>
        <c:auto val="1"/>
        <c:lblAlgn val="ctr"/>
        <c:lblOffset val="100"/>
        <c:noMultiLvlLbl val="0"/>
      </c:catAx>
      <c:valAx>
        <c:axId val="1954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73-9689-4E46-9DE3-D829325F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E80-5A4D-4EAB-8D08-36C484E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979-0D1C-4408-A402-A89A65C2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BB1-4A19-4553-AC38-E22ADC13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EEE-1334-48E5-B394-90CD8FB4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D3B-E423-4DEA-B4AB-75F665F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2E8-E413-424F-A156-54DC2EB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D3A-47E3-4E3A-9919-E841378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9CB-28A1-4F67-80D6-8D7AF9F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69C-2518-44E6-A388-A300BB85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881-C432-46ED-9AA7-6D5909B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D68-196C-487A-84B6-50A2906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9AD4F-8511-46AC-A6DD-0302F37E3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