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09384"/>
        <c:axId val="30727291"/>
      </c:barChart>
      <c:catAx>
        <c:axId val="13609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27291"/>
        <c:crosses val="autoZero"/>
        <c:auto val="1"/>
        <c:lblAlgn val="ctr"/>
        <c:lblOffset val="100"/>
        <c:noMultiLvlLbl val="0"/>
      </c:catAx>
      <c:valAx>
        <c:axId val="30727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9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953-A654-4448-BE10-44A5DDE3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6AA-12B1-4356-AD6B-EB9A3723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135-9311-4B52-8BA0-D5AC419B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474-87D5-44E7-A08B-E3ADA12E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996-12E2-4E21-8C05-05379CC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B57-11D5-4FE0-8C19-239C7CE2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E2B-5D36-4589-A9D2-22F3DD8E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5B2-DC4F-480B-A699-0D1CD5AA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702-C742-4D3C-86C7-FEFA7788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EAC-40BE-4647-A82B-C31A05AD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8BF-40B5-41CB-BFD8-E43E5AAB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EE5-4CA4-4B32-9CA6-7DDA6C4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58A03-7879-4A96-88D4-FFF46602A6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