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91779"/>
        <c:axId val="31337262"/>
      </c:barChart>
      <c:catAx>
        <c:axId val="31591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37262"/>
        <c:crosses val="autoZero"/>
        <c:auto val="1"/>
        <c:lblAlgn val="ctr"/>
        <c:lblOffset val="100"/>
        <c:noMultiLvlLbl val="0"/>
      </c:catAx>
      <c:valAx>
        <c:axId val="31337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1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2DF-3B4A-4726-B77A-5085C0F3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FC2-A82F-4965-8250-A8F1503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EA8-B701-447C-89AD-DAC4638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686-1AE0-4AAD-A745-5F923096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61F-4A13-4882-A9F3-5B2D7EE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D3E-2427-422C-95CF-EADFD19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F54-019A-4FB6-8D9E-56F35F0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1D2-2B20-4CA4-A59F-F9CF295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9B0-F339-4D88-9812-5BCFA82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2F7-AC70-47FD-AF66-61DA4E4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56B-D313-40E3-92AA-5A2C8B1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9E7-70D6-4969-8112-5C89867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EE60D-98DB-4912-A0CD-ECD5B972A0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