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0719556"/>
        <c:axId val="16433040"/>
      </c:barChart>
      <c:catAx>
        <c:axId val="3071955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433040"/>
        <c:crosses val="autoZero"/>
        <c:auto val="1"/>
        <c:lblAlgn val="ctr"/>
        <c:lblOffset val="100"/>
        <c:noMultiLvlLbl val="0"/>
      </c:catAx>
      <c:valAx>
        <c:axId val="1643304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71955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C91BC-1CED-4E70-BB0D-A661FA90B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7354F-D43C-4519-B595-500C287EF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0A7AF-C089-491B-9C50-85502DD11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5F37C-2CFC-42B5-88FF-B84B5BBE6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B29B5-7F89-4089-A068-FF01EF46D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E8256-801B-4C8F-B500-562CB0AB3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08CBA-9684-4F05-868B-DEFA6C4F2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26788-C18C-4C44-A0F3-564918034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B3902-1FFB-4848-9714-F314BBE2B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7915D-8763-4559-9737-9B89942B0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AF1DC-B514-4DEA-87FB-F6FCF8803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4057B-F89F-4A3B-9550-D127F8D52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42200C-0E2B-4CA4-B9E8-C7E68C9B948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