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75861"/>
        <c:axId val="31065538"/>
      </c:barChart>
      <c:catAx>
        <c:axId val="25975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65538"/>
        <c:crosses val="autoZero"/>
        <c:auto val="1"/>
        <c:lblAlgn val="ctr"/>
        <c:lblOffset val="100"/>
        <c:noMultiLvlLbl val="0"/>
      </c:catAx>
      <c:valAx>
        <c:axId val="310655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5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74D-DB8D-443F-937C-B5509368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2DE-5649-4089-A2BA-3BCA0D37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36D-CDA9-4E6E-9F3F-44C313D0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57E-309F-4859-990B-89EE4C42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11D-9EA6-4BE6-AB01-AEE756F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966-0DA3-4A06-A6C7-18781ED2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E69-3E0A-4BF7-9E7F-882BDC84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6AB-FF71-4A6F-9AFD-E0505FC6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2E7-69CB-4A44-8AE9-F5AADFC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13D-25F1-4563-A97B-59AA6D04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F3AA-3A35-4B4C-AC9E-98BCFB9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78B-0A14-4830-92FB-6FF5484C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0649A-D6EF-45E5-A8F0-2457AB433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