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45649"/>
        <c:axId val="12278521"/>
      </c:barChart>
      <c:catAx>
        <c:axId val="94345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78521"/>
        <c:crosses val="autoZero"/>
        <c:auto val="1"/>
        <c:lblAlgn val="ctr"/>
        <c:lblOffset val="100"/>
        <c:noMultiLvlLbl val="0"/>
      </c:catAx>
      <c:valAx>
        <c:axId val="12278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45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6E2-3CCF-466C-8339-24DDD637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2DB-F635-475E-87D1-A2DEC17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81E-1C96-465F-84A2-C889B0FB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283-554E-442C-90BF-392D2778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75D-3AFA-4663-9444-466F323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C41-4864-4945-9978-A8FD9F61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D90-80AA-4C7F-ACD8-F41F21C3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B43-1152-4933-8219-F3DE1001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221-81B9-4EFF-BA03-9043C7A0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18D-D161-433F-8766-2A5BEC4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E43-92A4-4301-8B9A-A8F34A5D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322-6741-4E2B-AAE1-B945874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EC233-0442-42C7-A416-6517256A46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