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41595"/>
        <c:axId val="59336099"/>
      </c:barChart>
      <c:catAx>
        <c:axId val="17941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36099"/>
        <c:crosses val="autoZero"/>
        <c:auto val="1"/>
        <c:lblAlgn val="ctr"/>
        <c:lblOffset val="100"/>
        <c:noMultiLvlLbl val="0"/>
      </c:catAx>
      <c:valAx>
        <c:axId val="59336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41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57B-4E51-472A-8042-743A22A0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1E6-6D4A-4E93-A98F-79C6552F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955-342A-4EFB-BBE5-2D114910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DC0-B5D9-49D8-B532-C715822E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CBB-F32A-468B-9327-8FC3FFD0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FD8-7CC3-46DB-9EB8-8AEE9A01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05C-448A-4B74-A893-881DFED4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C1F-2C85-4890-A106-1FAD38E6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427-14C1-4A3C-BDFB-D6635134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825-A2AF-4548-BDC2-42D8DB9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F1DB-F0B1-42CB-8958-1F98E4E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EA7-351F-4276-B9AD-25CC927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DB8C4-03A9-4B5E-B89C-99948435A9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