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00750"/>
        <c:axId val="57950281"/>
      </c:barChart>
      <c:catAx>
        <c:axId val="59100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0281"/>
        <c:crosses val="autoZero"/>
        <c:auto val="1"/>
        <c:lblAlgn val="ctr"/>
        <c:lblOffset val="100"/>
        <c:noMultiLvlLbl val="0"/>
      </c:catAx>
      <c:valAx>
        <c:axId val="5795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0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363-B4CE-442F-B3E1-E4FB1241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15-B4F0-4815-A00A-2599E6F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502-3003-4FE0-A65C-AD681AAC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EE3-E3E8-436A-8132-6BE3C189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6B2-19B1-4A5A-A7E2-38826B0D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7D3-A4B3-4FC4-965C-A2C00870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D4E-186C-400F-8725-FFF93EA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9B5-E8D0-430A-A2BF-00A7DBE3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C4E-16F0-40D7-ADA9-37C0AFD6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C46-0092-4F1E-85ED-A1F80E8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5E4-07BB-4135-AA44-0153BE9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C50-E4F9-42AF-9D61-EFC81BC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8709E-9A5C-4693-9396-8696334E2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