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44172"/>
        <c:axId val="23675732"/>
      </c:barChart>
      <c:catAx>
        <c:axId val="74044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5732"/>
        <c:crosses val="autoZero"/>
        <c:auto val="1"/>
        <c:lblAlgn val="ctr"/>
        <c:lblOffset val="100"/>
        <c:noMultiLvlLbl val="0"/>
      </c:catAx>
      <c:valAx>
        <c:axId val="23675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44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0EB-4BCB-41D1-BA32-E4B517AA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BEB-EAF2-4B83-AE53-E5EBB1F9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DE1-7684-4C48-B397-97DFC874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9AA-075E-4DA9-A8D8-693977A5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AEF-3C20-4006-9D7D-8DE95E10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974-0A86-43FD-8654-3B32A786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885-E268-463F-BD1D-1858D6A0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7E3-5E5A-4DA4-B317-1C28738C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2A7-EF57-4038-9A01-A012A346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CEC-894C-4FDD-B78D-2F730CD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4B4-D6DB-46D9-901D-C59E0D1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763-A87B-4FFE-A85D-D90EC86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2EFF0-6379-45B5-9A1C-F3AF44B7BA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