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76096"/>
        <c:axId val="28050226"/>
      </c:barChart>
      <c:catAx>
        <c:axId val="88876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50226"/>
        <c:crosses val="autoZero"/>
        <c:auto val="1"/>
        <c:lblAlgn val="ctr"/>
        <c:lblOffset val="100"/>
        <c:noMultiLvlLbl val="0"/>
      </c:catAx>
      <c:valAx>
        <c:axId val="28050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76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B61-8F5E-4F98-BB2E-E1C44B18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4F9-F53C-4AE8-8441-0767DECB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83E-9B9F-43EA-9D89-B86F3938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C69-C4A6-4585-BE54-D35D4417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60E-DDF6-4FA0-B7A8-AAD5EF6F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8DB-7474-4C38-9841-2EEF1D64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BAF-7740-43BD-80D8-42C11689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6E5-E333-4B05-A2BC-D4C3E880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CC1-C3ED-49C2-A366-ADCC7AC9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013-3C9E-465D-8F35-3FC93211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BC7-78BE-4EAD-8593-A0A9C4F5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E0C-E596-4551-A65C-9A4506F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619E8-D6A4-4CC1-8596-2B1366868C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