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37937"/>
        <c:axId val="90796040"/>
      </c:barChart>
      <c:catAx>
        <c:axId val="35537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6040"/>
        <c:crosses val="autoZero"/>
        <c:auto val="1"/>
        <c:lblAlgn val="ctr"/>
        <c:lblOffset val="100"/>
        <c:noMultiLvlLbl val="0"/>
      </c:catAx>
      <c:valAx>
        <c:axId val="90796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37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B9B-4683-4BB3-AE39-95A79E48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A47-6914-43A1-8423-5EB1179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30-E593-4F5A-AD0E-B19EA8B9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18F-3830-4C34-AADE-FD2789D3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567-5AFB-4740-8950-9373119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DA9-54C0-4995-ADDB-6BF68FA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14E-6EAD-49B6-862D-399D5E7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0AC-762D-4C7F-B54B-8398EED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28E-8636-4491-86E7-E21902B1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CE9-D9F0-4B9D-9F5C-6D7BFE0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019-0F32-410E-AD03-548CD00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554-9008-4B11-8213-A6B2E7E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19E10-1F75-4344-83FF-C9632E1A9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