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50325"/>
        <c:axId val="20193594"/>
      </c:barChart>
      <c:catAx>
        <c:axId val="38150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3594"/>
        <c:crosses val="autoZero"/>
        <c:auto val="1"/>
        <c:lblAlgn val="ctr"/>
        <c:lblOffset val="100"/>
        <c:noMultiLvlLbl val="0"/>
      </c:catAx>
      <c:valAx>
        <c:axId val="20193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0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936-65E0-40EF-950E-AA0C95D6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B14-875E-49C8-A231-6EF7F808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E23-3A96-43EA-B742-4563148C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11B-781F-44A2-AA3D-C8E5621A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32E-510B-4F0F-909A-172B8517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AC3-8606-4776-8D1B-1F66F25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376-357B-4FEE-BD96-12ADF7B4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9F4-D028-4446-AB89-90CECFFA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488-EC9F-4B57-9BA5-B1F4008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4B3-7BF5-46CE-9636-514D2B7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B31-5480-4675-ACF2-1E4F426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751-8DBC-47E4-AB92-1136C09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1AF07-032D-4EBF-B448-59E964ABF6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