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47296"/>
        <c:axId val="15147881"/>
      </c:barChart>
      <c:catAx>
        <c:axId val="38747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47881"/>
        <c:crosses val="autoZero"/>
        <c:auto val="1"/>
        <c:lblAlgn val="ctr"/>
        <c:lblOffset val="100"/>
        <c:noMultiLvlLbl val="0"/>
      </c:catAx>
      <c:valAx>
        <c:axId val="15147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47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B02-9870-45E6-8BCC-CF9293DA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47A-3F0C-4D85-B99D-C65250D6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E93-4E99-4951-BB60-094D2657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0C1-E739-483F-98F6-15FE0B1B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62A-D634-47A9-9F00-1F8AA67B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51A-44E6-4D97-BF2C-612B1F15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826-A213-412C-8894-D51A8444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30C-B46A-445D-93BE-9066CB47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D89-B754-4EED-BC7C-E435BFFF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FA1-5E47-49DC-AD98-9A07FABA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012-0F38-48F7-9CB1-513EBF8B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AE1-6C1B-469C-A26A-7E5D21C4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5C992-A7AE-4C3E-B9F2-894690431C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