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57335"/>
        <c:axId val="49045883"/>
      </c:barChart>
      <c:catAx>
        <c:axId val="47657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45883"/>
        <c:crosses val="autoZero"/>
        <c:auto val="1"/>
        <c:lblAlgn val="ctr"/>
        <c:lblOffset val="100"/>
        <c:noMultiLvlLbl val="0"/>
      </c:catAx>
      <c:valAx>
        <c:axId val="49045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57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49E-146C-41C2-AAE1-A8429568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EB8-E54C-46DD-AA23-4DFE7DE4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FB8-0258-4021-86C5-9A983C99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090-2F7A-4BD1-837C-B513869E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33A-F3FB-4395-A3BB-6508197E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999-8D8F-4D41-851E-DB7AFD4E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840-8B25-4771-AAC6-460E78E3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9DA-4262-4D9B-9B70-D646A454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BD2-91A2-4EEC-B04B-E57B5D34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9BC-3D7F-45EC-998B-305FD66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643-9017-4EA9-AEB8-2FF753A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F83-EEA9-421B-82BF-BFF166C3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7EE07-8E4B-485D-B3A6-AD9591B2A9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