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82675"/>
        <c:axId val="91362200"/>
      </c:barChart>
      <c:catAx>
        <c:axId val="20982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62200"/>
        <c:crosses val="autoZero"/>
        <c:auto val="1"/>
        <c:lblAlgn val="ctr"/>
        <c:lblOffset val="100"/>
        <c:noMultiLvlLbl val="0"/>
      </c:catAx>
      <c:valAx>
        <c:axId val="91362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2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C30-E957-4E00-AB27-3B549BAE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FD1-F994-46C5-A02D-8CB893F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B0D-6A5A-4C32-9CD4-9153507A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E93-7C02-4448-94DD-1E09399B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571-136D-4799-8740-2907514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DFE-1F6A-4ED8-A3D4-890004D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269-807C-42ED-A85E-8C7EDDE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B51-5F7B-4086-B3AC-56779E7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D16-C00E-41E2-8810-977D423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6EC-C632-43B6-81DC-298EBF8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27A-09E5-4619-A786-8E10D14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A10-4114-43FF-AEF9-E0BDE40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45B0F-5DAB-4981-B8BE-10D5E9D42F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