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30722"/>
        <c:axId val="21610180"/>
      </c:barChart>
      <c:catAx>
        <c:axId val="44730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10180"/>
        <c:crosses val="autoZero"/>
        <c:auto val="1"/>
        <c:lblAlgn val="ctr"/>
        <c:lblOffset val="100"/>
        <c:noMultiLvlLbl val="0"/>
      </c:catAx>
      <c:valAx>
        <c:axId val="21610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30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8CE-0C10-4C0B-8CC0-573EECF6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2CD-4384-4293-9ADD-03D4D20F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A63-8DDE-4863-B225-A85BDBE8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F40-ED54-4FCC-87A4-C41558F5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D4E-4C6E-46AB-B1E7-6B0765EB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52C-D9FB-45DB-91C3-B146AE8F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A09-7B6A-415D-B787-7EAE601C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CCC-46A5-448A-81D9-A29A3F9D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A62-A63B-480B-948D-E890B618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FB1-3C8B-48CE-86BD-82CF16CE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17D-DC53-46E5-91F4-B4F5AD21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2F1-34EA-49AB-B8AE-5FA58876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B5D62-67C2-439B-9D1C-843F89CC9C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