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310071"/>
        <c:axId val="47009923"/>
      </c:barChart>
      <c:catAx>
        <c:axId val="893100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009923"/>
        <c:crosses val="autoZero"/>
        <c:auto val="1"/>
        <c:lblAlgn val="ctr"/>
        <c:lblOffset val="100"/>
        <c:noMultiLvlLbl val="0"/>
      </c:catAx>
      <c:valAx>
        <c:axId val="470099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100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05BF-EC96-45C8-87E5-84E8AAB7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3478-2092-4FD9-9E69-DD7FE775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FB11-86E5-4FF9-B91D-092052C9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934E-86C5-4013-8284-04F091B4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8C05-B1A2-4762-AED3-91122246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EC6F-0E6B-45A7-8C27-B23711BB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0DA6-EB7C-4D19-AC8E-DCAE50A7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A901-8301-4058-ADAD-5B308F1E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90CE-89D6-4313-9346-D4806B9C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6011-2833-4436-8991-FF23C2E3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13C3-6C7B-4C5C-A7A5-F2F77DCB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B913-AC13-4DFE-890B-1C4A0822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88865-B199-4827-BE3C-525F5741EE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