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56472"/>
        <c:axId val="34166877"/>
      </c:barChart>
      <c:catAx>
        <c:axId val="44256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66877"/>
        <c:crosses val="autoZero"/>
        <c:auto val="1"/>
        <c:lblAlgn val="ctr"/>
        <c:lblOffset val="100"/>
        <c:noMultiLvlLbl val="0"/>
      </c:catAx>
      <c:valAx>
        <c:axId val="34166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56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8F8-8C5F-43FB-836C-D6890187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67C-E1AD-438F-AFD6-BB7D1A0D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C0C-8138-4703-9564-25098DF8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FB4-E3BA-4F77-8DA2-7DECE49E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EC1-A83A-4230-BC91-FD9E5064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BF6-3A6B-463D-B6F7-173E165F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684-7129-49F7-88E7-F9092CF7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70E-228E-4824-9D98-994F79A5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464-12BD-4540-8891-B0677E6D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47C-DBC0-4CAA-86DB-969E053C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B22-E9E8-4E1C-804F-499B2886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FFC-4AF7-429E-B821-557E042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5ADCA-9BD6-4F67-AB2C-6EE61041E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