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40619"/>
        <c:axId val="11717745"/>
      </c:barChart>
      <c:catAx>
        <c:axId val="51540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17745"/>
        <c:crosses val="autoZero"/>
        <c:auto val="1"/>
        <c:lblAlgn val="ctr"/>
        <c:lblOffset val="100"/>
        <c:noMultiLvlLbl val="0"/>
      </c:catAx>
      <c:valAx>
        <c:axId val="11717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40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D14-4F51-473D-8450-7D780168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BDF-A2AB-4D49-9740-1CF694C6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560-C48E-4105-AAAB-61B29BFF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19D-BD92-40E1-98E0-DCCC22EB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21F-D617-4C62-A43F-38BD5398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5FC-82DF-4D33-889D-5DC01AC9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613-7F21-4569-B4C7-CBAE4D74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BC9-187A-479B-A69C-15AABF32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110-7AED-4E76-A878-0FF8D65C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182-B344-4721-998D-7B399116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C6B-A6C1-41B9-82EF-D51812A9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404-B303-469C-9707-F608DDFA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050AB-1FB0-4664-82BF-EEFC750717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