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8262"/>
        <c:axId val="16711268"/>
      </c:barChart>
      <c:catAx>
        <c:axId val="1518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11268"/>
        <c:crosses val="autoZero"/>
        <c:auto val="1"/>
        <c:lblAlgn val="ctr"/>
        <c:lblOffset val="100"/>
        <c:noMultiLvlLbl val="0"/>
      </c:catAx>
      <c:valAx>
        <c:axId val="167112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8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B119-9057-4C25-9492-8F3E4D61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93F-9498-49D3-A30A-8C39AA94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E9A4-1CAD-4860-BD59-34D45B11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E459-5462-4951-96C9-3AF298A1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25E-BA00-495D-9B5C-7E802E5D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B86-4C6C-4B50-9D2F-A03C1894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F64-1477-41E2-8332-726135CF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BDB-1475-4011-9B0B-7CFE897B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0E4-5C18-4AF3-A673-72DAA176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E04-64D2-4617-AD61-226734EA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92B3-04C4-443E-AB8C-E3F74F80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080B-B7EC-466C-BBBF-484F6E73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DD8D2-D781-4F86-A657-ECADF9273F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