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09858"/>
        <c:axId val="67904783"/>
      </c:barChart>
      <c:catAx>
        <c:axId val="4640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4783"/>
        <c:crosses val="autoZero"/>
        <c:auto val="1"/>
        <c:lblAlgn val="ctr"/>
        <c:lblOffset val="100"/>
        <c:noMultiLvlLbl val="0"/>
      </c:catAx>
      <c:valAx>
        <c:axId val="6790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0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34E-26F2-4231-811E-60BC191B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5C0-C1BD-460D-A7F0-ECFC33E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F83-9B4B-4B3A-9569-9950D6A9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57D-A90C-4FB5-B542-4BA7E257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7E4-4D4D-4655-9B46-15B46F9F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43B-6316-44F1-AB5D-30300D18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9B3-A8E7-4B27-BD85-E4BA56A4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A85-0383-4E6B-9743-FB83D70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B96-BDC2-479F-8342-10915BA3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4EC-42B3-458A-A7DE-E7E48BB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24B-56DF-494A-B09E-9F4BB68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64C-182E-42EF-A257-DEFFC01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13D5D-C242-4A01-9E0A-0203469E4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