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84807"/>
        <c:axId val="55505617"/>
      </c:barChart>
      <c:catAx>
        <c:axId val="84484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05617"/>
        <c:crosses val="autoZero"/>
        <c:auto val="1"/>
        <c:lblAlgn val="ctr"/>
        <c:lblOffset val="100"/>
        <c:noMultiLvlLbl val="0"/>
      </c:catAx>
      <c:valAx>
        <c:axId val="555056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84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8D86-F332-42C3-B1C9-D6769BEC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692-6AD8-46AE-A264-2BF9AFFE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AC5-FFC9-45FC-84E2-92B2B6E8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6B5-F3C4-46A6-9FBA-5F6968D8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BB3-56BB-489E-8D18-DA94A482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194-1422-47B4-BC7D-28E40B30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42B-3D19-4AF3-82D8-0F9B8F86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AB3-CD5A-4007-9D46-227C855B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1AA-E869-4F92-A542-521D27A7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F424-1471-48BB-9E9D-ABAD588D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44C0-7C53-4858-8A9F-175ABD41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311F-30AF-429F-8301-8D52292D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41E40-7B81-4281-A9A1-95F58898AF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