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10474"/>
        <c:axId val="86994553"/>
      </c:barChart>
      <c:catAx>
        <c:axId val="42510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4553"/>
        <c:crosses val="autoZero"/>
        <c:auto val="1"/>
        <c:lblAlgn val="ctr"/>
        <c:lblOffset val="100"/>
        <c:noMultiLvlLbl val="0"/>
      </c:catAx>
      <c:valAx>
        <c:axId val="86994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0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2C6-2B81-47B4-8526-55037D40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662-5E9C-4EC3-832E-5471929C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220-E86C-45B5-8ABF-DB508AA6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6B8-9DF9-4E3E-802D-7E5D6D52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127-54A4-46C9-A9C7-D50DB6CC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E6B-7FFA-42B2-BB71-F65A3B2B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997-91E8-44D3-A95B-194AC10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663-09AF-4A63-89A7-4F3E6C6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8AC-F86C-42E0-AA67-3BD9F850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EE5-A784-41A0-BB48-9BA04DB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CFB-5347-4254-BE38-2A24E76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BD9-A2CE-4571-844B-14FCB39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BDA33-5483-4889-8496-DD3A4BF88E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