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1165"/>
        <c:axId val="37622907"/>
      </c:barChart>
      <c:catAx>
        <c:axId val="3741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2907"/>
        <c:crosses val="autoZero"/>
        <c:auto val="1"/>
        <c:lblAlgn val="ctr"/>
        <c:lblOffset val="100"/>
        <c:noMultiLvlLbl val="0"/>
      </c:catAx>
      <c:valAx>
        <c:axId val="37622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42C-40C3-439D-8B50-FB7C5620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668-23A5-4F5B-A601-EDF25E14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D5A-29A3-4AA6-B04D-6847CF8D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4F6-0603-46CD-94A4-BD2F0E22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D8F-48A4-44DA-BD39-319678D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EDC-6FE0-4A3F-B465-70D78E3D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693-F88F-44B0-BBB5-5D111EA1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60B-CA8C-45A9-A2BB-8868471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FAA-245A-4B17-B69E-FB94D80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B65-A5FD-4480-A86A-B28AF978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B47-9BEA-4E4C-AA3F-55AD0D2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B35-34B5-4907-8006-0C52262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6F44D-8EA7-46F2-A823-61E1BBD6D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