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98136"/>
        <c:axId val="84689500"/>
      </c:barChart>
      <c:catAx>
        <c:axId val="67498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89500"/>
        <c:crosses val="autoZero"/>
        <c:auto val="1"/>
        <c:lblAlgn val="ctr"/>
        <c:lblOffset val="100"/>
        <c:noMultiLvlLbl val="0"/>
      </c:catAx>
      <c:valAx>
        <c:axId val="84689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98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258-B753-43D7-9AA5-6FDE678E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CC4-BB0D-45FE-BB3D-2482B2F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12A-A868-4C95-AA40-78D8169A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455-0661-4004-B465-A7AD9BC9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BBB-D3AE-43B8-9B61-D2C3BA5F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D3D-E4D7-4378-AD94-3C228CC3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764-5DB5-498E-BA42-D8CC7F07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9BA-2FF7-4DA9-AA8C-174A539B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B3F-BFA1-4776-97F5-7FEEE1E2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4C2-3EF3-4D43-9CE1-C8FD64C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C27-5871-468E-BD69-7C0FBE3C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736-2F85-4945-BB0D-980A57D5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3701C-4EFB-47CE-B4FC-3D1C158808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