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57834"/>
        <c:axId val="62704544"/>
      </c:barChart>
      <c:catAx>
        <c:axId val="55157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04544"/>
        <c:crosses val="autoZero"/>
        <c:auto val="1"/>
        <c:lblAlgn val="ctr"/>
        <c:lblOffset val="100"/>
        <c:noMultiLvlLbl val="0"/>
      </c:catAx>
      <c:valAx>
        <c:axId val="62704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57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6F6-8F5B-4B52-B5E8-55873D99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08A-4BD2-4918-B793-B05E46B9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FFA-2EA6-42BD-85E6-8215C598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931-BC10-49E4-BC6D-8A91305A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98D-CB20-4A4D-9E41-054D12DC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CF9-87C6-4368-BC8E-10CCE2C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5CF-8A41-4015-86B7-8C95CE0D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C4A-E442-4837-8C2B-8178C489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66F-E872-4A09-8BD9-AABA40A8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83C-444B-4E80-9C36-ACC4403E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D6B-CFF8-453D-B7B3-FD0A94B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18A-E853-4FC4-94AC-68F6882C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C043F-0930-4A38-A4C3-479CA472B6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