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70193"/>
        <c:axId val="20362830"/>
      </c:barChart>
      <c:catAx>
        <c:axId val="71170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2830"/>
        <c:crosses val="autoZero"/>
        <c:auto val="1"/>
        <c:lblAlgn val="ctr"/>
        <c:lblOffset val="100"/>
        <c:noMultiLvlLbl val="0"/>
      </c:catAx>
      <c:valAx>
        <c:axId val="20362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70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C7B-47BD-4D9A-B960-8D6BFBA5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4E2-2D62-4DB5-9CF0-9ADCF8F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0FD-3813-41AE-AFA1-3807EBF4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AFF-F75B-4401-A581-6FBEA99E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D97-5DA5-436A-971A-7F344D41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A98F-BA7B-4A57-ADB8-B23B820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A0C-25B3-4F84-A234-E61CC949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F3C-5433-46D0-AB25-9E26C70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79E-5DF3-4D2E-B2D3-5AC2330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B0C3-2431-4629-BFB1-DEDD677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7DC-9D63-4F51-980E-BF8E6BA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496E-71C8-46B0-BD0A-9A12254B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7B6E-3249-4DAD-AC43-CE0D000B53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