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44332"/>
        <c:axId val="88337056"/>
      </c:barChart>
      <c:catAx>
        <c:axId val="42444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7056"/>
        <c:crosses val="autoZero"/>
        <c:auto val="1"/>
        <c:lblAlgn val="ctr"/>
        <c:lblOffset val="100"/>
        <c:noMultiLvlLbl val="0"/>
      </c:catAx>
      <c:valAx>
        <c:axId val="88337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44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559-9DFC-41B1-9D92-9C6E6002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251-BD50-421E-880E-524C1B3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930-369C-4FF2-BAA8-85D13D23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EF5-9E7B-4B7C-9C44-9BED0F82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69-4DE3-4FA4-AB89-F469630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62F-F771-420F-9F7D-4BC98E08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146-2389-4BCD-B9B5-92071EE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AC7-59A7-44ED-A0B6-112C081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DCE-D743-43DC-A2ED-ADFB7A6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435-6D44-45F0-91BA-FD38536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726-9EA6-454A-8CE2-2A403937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4D7-8700-4126-8A40-18292B5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68504-742C-46D5-9D18-16ACD3AD8D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