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57341"/>
        <c:axId val="54872882"/>
      </c:barChart>
      <c:catAx>
        <c:axId val="73157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72882"/>
        <c:crosses val="autoZero"/>
        <c:auto val="1"/>
        <c:lblAlgn val="ctr"/>
        <c:lblOffset val="100"/>
        <c:noMultiLvlLbl val="0"/>
      </c:catAx>
      <c:valAx>
        <c:axId val="54872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7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CBD-6651-45ED-8610-6253867E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E82-E890-4E7E-B963-83B6D42A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8DB-3D7D-41DF-92C1-D45F5FF8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20F-0E70-4BEE-B2F8-F6E4A37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BFA-7F24-4603-9CB3-7511578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550-9CBD-43CC-8EB1-01EB5EB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C99-CBC8-4267-BAF0-C718B43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80C-0979-4771-B0FF-D8A62DC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960-9038-4CA8-A7CF-4394439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5A4-2809-49C4-BB75-8513466E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DC9-0E07-498A-8591-6063BD4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0C8-C94E-4043-80CE-42F641D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9F296-5352-4B86-88B3-F77C90EC4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