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78992"/>
        <c:axId val="24404077"/>
      </c:barChart>
      <c:catAx>
        <c:axId val="80178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04077"/>
        <c:crosses val="autoZero"/>
        <c:auto val="1"/>
        <c:lblAlgn val="ctr"/>
        <c:lblOffset val="100"/>
        <c:noMultiLvlLbl val="0"/>
      </c:catAx>
      <c:valAx>
        <c:axId val="24404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78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4A0-B99D-41F3-95E9-2E7A2D43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C6A-C9EF-474D-B96E-EE239255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2A1-8AAF-4AFD-AD3D-05968CFE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418-8A82-4379-B4B5-C3071AE8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2D6-B70A-4B45-9347-AC3B6D02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ECC-34CC-4B6A-9704-EB388872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A80-E39F-4CEC-B365-DA1A03C6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173-7E85-47B9-BC8D-2C09C687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4A9-B093-4EFD-9164-EB200777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5EF-C718-4C11-A412-C5AD442A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B11-AE77-40FE-8D3A-1EE4C6EA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F4C-D8D0-40FA-A311-F14A9305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14494-6738-4E5D-BC0D-344448AA17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