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18520"/>
        <c:axId val="26687190"/>
      </c:barChart>
      <c:catAx>
        <c:axId val="55318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87190"/>
        <c:crosses val="autoZero"/>
        <c:auto val="1"/>
        <c:lblAlgn val="ctr"/>
        <c:lblOffset val="100"/>
        <c:noMultiLvlLbl val="0"/>
      </c:catAx>
      <c:valAx>
        <c:axId val="266871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18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86E6-6797-45B2-AA78-E5147BFF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A79E-9298-46C2-827A-01CB8D95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084-0F17-4A55-B943-C32BDD29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D3C6-E468-4D06-A791-AA902F91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4FA-3D54-4538-8B72-6271E605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C24F-F90E-4C39-AED7-E55D8F99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9E6-7D7E-421C-A989-3A9E40CF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5969-CC3D-4C95-A14E-2EB27CB0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BB4-280D-43C6-9D88-BAF0D73A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30E-F406-46E4-84E1-F2CBC9A1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C8F4-BAD6-4343-A8ED-026138B6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303-5E40-40F7-BA22-8DE65993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A6F66-8AA3-4504-A63A-8BDADF9762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