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4549"/>
        <c:axId val="21934660"/>
      </c:barChart>
      <c:catAx>
        <c:axId val="26414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34660"/>
        <c:crosses val="autoZero"/>
        <c:auto val="1"/>
        <c:lblAlgn val="ctr"/>
        <c:lblOffset val="100"/>
        <c:noMultiLvlLbl val="0"/>
      </c:catAx>
      <c:valAx>
        <c:axId val="21934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4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D62-50F5-4592-AAD9-71E73C64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4C-E526-4092-B6E4-32C779D0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2A6-F2F2-4194-9425-9EEB21BD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D11-AB52-42B7-B712-FE7E4F56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50F-5A05-4D02-8ED6-7918FC3A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489-3ADA-4D92-9F30-8291F958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511-C516-45F5-B542-7A990A7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950-9DAA-4D39-8279-349A1227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8EE-2713-461A-AE0D-BF84117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149-216E-4925-A889-8707B461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8F3-E183-461E-B8D9-F98F816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7AB-F1F9-40E4-AC51-5382EDC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0207-7482-4515-A3FC-69D2128F2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