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16768"/>
        <c:axId val="20530221"/>
      </c:barChart>
      <c:catAx>
        <c:axId val="88716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30221"/>
        <c:crosses val="autoZero"/>
        <c:auto val="1"/>
        <c:lblAlgn val="ctr"/>
        <c:lblOffset val="100"/>
        <c:noMultiLvlLbl val="0"/>
      </c:catAx>
      <c:valAx>
        <c:axId val="20530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16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F05-8733-4240-9383-E1411279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39D-8E2C-41D5-8C3F-724B2A9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0D1-B76E-4D95-BA8B-C994263A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A34-9C37-4020-8ECC-84EF33DA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D27-193B-41FA-BC5D-8C21EB9A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2E2-44FE-45C9-8757-E9007997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FBC-264C-4A80-ACBD-169742A3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E3E-8367-45F1-AFC5-CF824266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527-5507-4771-8EE5-78331339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FFC-B947-4FB9-9E56-02562D5A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18D-431D-4527-B42F-63026CD0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8BF-F11D-4FCD-A13A-4E89C01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EFFAA-0AD2-42C8-8A90-394CCD1E08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