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41723"/>
        <c:axId val="41732933"/>
      </c:barChart>
      <c:catAx>
        <c:axId val="7204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32933"/>
        <c:crosses val="autoZero"/>
        <c:auto val="1"/>
        <c:lblAlgn val="ctr"/>
        <c:lblOffset val="100"/>
        <c:noMultiLvlLbl val="0"/>
      </c:catAx>
      <c:valAx>
        <c:axId val="41732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4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AF8-BFFD-4AE1-AF07-0115A1E7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4DE-FD3C-449C-A181-603DDC8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CC1-FFD5-4826-958A-F861386F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841-D7C6-4C0F-8BE3-6592ECA6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10E-BCD8-4769-B7A5-10EC66C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B89-85E0-4C69-B0F3-77BF915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8CB-DC83-4894-AE48-12A2241F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D30-8712-4152-82D5-AD4845E6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220-6848-45D1-9AB1-A10EFC8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B47-8899-494A-AA63-0FF9F49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354-73EF-4C58-A623-4DDCF2D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367-84CA-46C7-878C-96FB6BA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3DD2-C7F8-4C38-9F23-FBA789BE8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