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46234"/>
        <c:axId val="82288092"/>
      </c:barChart>
      <c:catAx>
        <c:axId val="89146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88092"/>
        <c:crosses val="autoZero"/>
        <c:auto val="1"/>
        <c:lblAlgn val="ctr"/>
        <c:lblOffset val="100"/>
        <c:noMultiLvlLbl val="0"/>
      </c:catAx>
      <c:valAx>
        <c:axId val="82288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46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1FE-8627-4815-8291-CCA0FB67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218-34A7-4F66-BF9A-D790CF7E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728-681E-4485-A3A4-EAE87184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8D0-F723-4AA8-B2B8-259D3BA1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00F8-3871-404D-BD60-8A8C0EFD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F69-A275-4D6C-A238-00F348CA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341-5CB9-4A44-B049-E90EA217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934-9BD9-41CC-8C9F-73A025E7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9A6-2CBF-4F33-A3DD-13DB7B9D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AAD-57A8-46C1-8D8E-6C370E1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1ED-AC48-4F08-B5D1-49FF8ED3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009-F537-463E-869A-7861BCA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A9499-9D54-4E1E-AD86-8C192ED477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