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62921"/>
        <c:axId val="46965408"/>
      </c:barChart>
      <c:catAx>
        <c:axId val="954629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65408"/>
        <c:crosses val="autoZero"/>
        <c:auto val="1"/>
        <c:lblAlgn val="ctr"/>
        <c:lblOffset val="100"/>
        <c:noMultiLvlLbl val="0"/>
      </c:catAx>
      <c:valAx>
        <c:axId val="469654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629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49F-79B6-4595-BB45-48D3ABCC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226-C891-4C44-ACB5-8AC76EDE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DE8-79DA-433B-9470-E725F6D1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E761-6785-49A1-89DA-68835909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652-2D9A-447B-9C76-ABC5883B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666-859D-4DCD-98BD-13AF1CF2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55C-FD23-4BE3-BF6B-203B2273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57F-4468-460A-B8DF-9F4B9997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B05-D5D1-4CCA-BA3A-97CB519F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43A8-C4D0-436C-B0B5-F71B4976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55F0-2B84-429A-95FC-532E01DA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746-AC6C-4599-BBDA-43638CBC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0F40A-FE8F-4ED2-9B32-5FBFABC368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