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642230"/>
        <c:axId val="84592474"/>
      </c:barChart>
      <c:catAx>
        <c:axId val="986422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592474"/>
        <c:crosses val="autoZero"/>
        <c:auto val="1"/>
        <c:lblAlgn val="ctr"/>
        <c:lblOffset val="100"/>
        <c:noMultiLvlLbl val="0"/>
      </c:catAx>
      <c:valAx>
        <c:axId val="845924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6422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9719-E51C-483E-9668-23A003311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8F04-C341-4291-9701-2BCAC4FD8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1455-6C3C-4E92-8DE2-C46BE7A21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6EE8-06E0-48BF-8670-CB38BFFAD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A4DD-5066-4B3D-9C73-0734ACC6E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C4BA-7443-477F-84B1-6C392D8F8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AB34-3ACB-4BB1-B468-DECF37A1F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2F91-964E-4F81-AA1D-E3EF7D9CA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4117-0AD0-4B22-B212-AF6EFFFEA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952A-62D5-4FB3-AE85-1B2D8CF5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E03A-DB1F-418C-8122-5FDBB6DA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73D0-F651-4AA5-BEF7-FDDAEBCE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CAB2D3-5D9E-45E0-991A-8DE8345A2CD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