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34785"/>
        <c:axId val="9438718"/>
      </c:barChart>
      <c:catAx>
        <c:axId val="69134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8718"/>
        <c:crosses val="autoZero"/>
        <c:auto val="1"/>
        <c:lblAlgn val="ctr"/>
        <c:lblOffset val="100"/>
        <c:noMultiLvlLbl val="0"/>
      </c:catAx>
      <c:valAx>
        <c:axId val="9438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4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D2A-498E-4E61-9BB8-37E78172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782-76A1-4F5B-A7F9-BCD4F207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6C8-1566-4E0C-8A0A-791B22F7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B1C-49F1-4444-9C83-DFF4E072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9C7-0800-4D97-8281-CC151E44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BDD-48F1-41D8-83EA-44CE34C3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DDB-B8C3-4912-8038-1E0C505D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87E-7992-4F1B-81A8-2D740959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1DD-EB4E-4021-966C-CA94532F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C53-DAE7-4DAE-80D9-73AAC1A8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5FD-7236-4471-8E14-8A244DF9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B11-607D-4CBD-A18E-DC727AD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33C1F-AB57-4CA3-9EE8-5A1C8303A8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