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41917"/>
        <c:axId val="43639834"/>
      </c:barChart>
      <c:catAx>
        <c:axId val="62741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39834"/>
        <c:crosses val="autoZero"/>
        <c:auto val="1"/>
        <c:lblAlgn val="ctr"/>
        <c:lblOffset val="100"/>
        <c:noMultiLvlLbl val="0"/>
      </c:catAx>
      <c:valAx>
        <c:axId val="436398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1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5CE-B14C-45D6-8122-04F7565A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AE2-FC7D-43AA-8417-A1D358BF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D6D-2771-4430-B45C-B14F164A9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3901-2FB7-404E-AD03-3C9B1921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25A-9CD4-4560-8C7F-015C94F3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72F5-AC72-45B1-8F11-FAB9BE00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858D-D107-4C5E-A33C-73901388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8DD4-76BB-4352-8378-FD8F55F6B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B7BD-5383-4E4B-A1A4-34C105AD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2B46-2198-498C-B859-E66B4299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A52F-75E7-4B73-9FB1-1C83D3C6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EFD-81AA-4A7E-B47B-F124C536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EF14-11F7-4B3C-B48E-2E5F6CCFFA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