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89071"/>
        <c:axId val="91789039"/>
      </c:barChart>
      <c:catAx>
        <c:axId val="76389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89039"/>
        <c:crosses val="autoZero"/>
        <c:auto val="1"/>
        <c:lblAlgn val="ctr"/>
        <c:lblOffset val="100"/>
        <c:noMultiLvlLbl val="0"/>
      </c:catAx>
      <c:valAx>
        <c:axId val="91789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89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980-E162-4AAC-8BC3-7759E117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482-F502-4C53-866B-33DA2EC4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570-0FDB-4431-9DB9-3AE33B4A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652-3E55-4A7A-9422-547A45DD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F14-405F-4EA7-8639-85D3BD44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CF6-C649-463B-A860-8FCA49C8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583-6E00-45D6-9519-E544371D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EC0-5F52-4DD5-A3BF-94C77C9E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44F-AD4B-4DF8-8CA5-8110FB19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C77-E836-41AC-AFE7-935DC7B0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77A-7D2C-4A3C-8252-518E9A9A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84C-4A71-4A3D-81A3-2F3B7794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5CEBE-E1DB-4BE0-8CB3-66D3B324E5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